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816D-235D-422E-852F-8CCF420E6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E0C9-BDC4-42CA-9E94-1DAAB845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2E6D-972A-42B3-AEAA-63199900F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D077-FE0F-44F1-83FF-84E606284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CBCF-00E2-40A4-AEA2-6BA1EB9F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9A74-64F9-480A-B95C-BE1093D8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2B2B-B327-4FF5-9449-D2559E73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F259-9972-4C81-A318-69E18E69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A991-BD20-45A4-B936-3F26BE04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63F6-69C9-4777-910B-B2007D83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4979-4F80-46E5-9B4F-42C085C9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C90F-738A-4AAF-AED6-3CFFAB51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7542-E9A4-4786-99DD-4C97AFBA0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www.freeplaymusic.com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hyperlink" Target="http://web.mit.edu/invent/iow/crayons.html" TargetMode="External"/><Relationship Id="rId4" Type="http://schemas.openxmlformats.org/officeDocument/2006/relationships/hyperlink" Target="http://inventors.about.com/od/cstartinventions/a/crayons.htm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228600"/>
            <a:ext cx="5943600" cy="1828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gency FB"/>
              </a:rPr>
              <a:t>Crayola Crayons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gency FB"/>
              <a:ea typeface="Agency FB"/>
            </a:endParaRPr>
          </a:p>
        </p:txBody>
      </p:sp>
      <p:sp>
        <p:nvSpPr>
          <p:cNvPr id="42" name=""/>
          <p:cNvSpPr/>
          <p:nvPr/>
        </p:nvSpPr>
        <p:spPr>
          <a:xfrm>
            <a:off x="6248520" y="5029200"/>
            <a:ext cx="2133360" cy="1280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erlin Sans FB Demi"/>
              </a:rPr>
              <a:t>Sara Matth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erlin Sans FB Demi"/>
              </a:rPr>
              <a:t>Friday, March 09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erlin Sans FB Demi"/>
              </a:rPr>
              <a:t>Period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erlin Sans FB Demi"/>
              </a:rPr>
              <a:t>Computer #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3726000"/>
            <a:ext cx="2505240" cy="3132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19520" y="65530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(Clipa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77120" y="1752480"/>
            <a:ext cx="266688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reeplay Music, </a:t>
            </a:r>
            <a:r>
              <a:rPr b="0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Unison 30,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eb. 27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freeplaymusic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763200">
            <a:off x="1218960" y="2742840"/>
            <a:ext cx="1904760" cy="1313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hildren all over the world use Crayo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Binney &amp; Smith"/>
          <p:cNvPicPr/>
          <p:nvPr/>
        </p:nvPicPr>
        <p:blipFill>
          <a:blip r:embed="rId2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1828800"/>
            <a:ext cx="4648320" cy="41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dward Binney &amp; Harold Smith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 23, 2012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crayon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rayola Crayon Histor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 23,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nventors.about.com/od/cstartinventions/a/crayon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0481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ward Binney and Harold Smith co-invented Crayola Cray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Hoop boy"/>
          <p:cNvPicPr/>
          <p:nvPr/>
        </p:nvPicPr>
        <p:blipFill>
          <a:blip r:embed="rId5"/>
          <a:stretch/>
        </p:blipFill>
        <p:spPr>
          <a:xfrm>
            <a:off x="7543800" y="3048120"/>
            <a:ext cx="1347840" cy="19810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Crayola Cray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Crayola company was developed in eastern Pennsylva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100 billionth Crayola Crayon was made in 199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yola Crayons are sold in more than 80 countries and packaged in more than 12 languag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box of crayons was made in 190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, there over one hundred different types of crayons being made by Cray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yola crayons are used all over the world to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rcRect l="2902" t="5113" r="0" b="0"/>
          <a:stretch/>
        </p:blipFill>
        <p:spPr>
          <a:xfrm>
            <a:off x="6172200" y="5029200"/>
            <a:ext cx="2546280" cy="1828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3880" y="65530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(Clipa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nventor: Edward Binney and Harold Smi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ney was born in Westchester county, New York in 186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00, along with his cousin Harold Smith, Binney opened a mill in Easton, Pennsylvania to produce slate pencils for sch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at, he began to experiment with wax and different colored dy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 Stead Binney, Harold’s wife, came up with the n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 rot="1009200">
            <a:off x="2285640" y="5181120"/>
            <a:ext cx="2438280" cy="1282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90920" y="65530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(Clipa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4:41:15Z</dcterms:created>
  <dc:creator>install</dc:creator>
  <dc:description/>
  <dc:language>en-US</dc:language>
  <cp:lastModifiedBy>install</cp:lastModifiedBy>
  <dcterms:modified xsi:type="dcterms:W3CDTF">2012-03-09T15:25:14Z</dcterms:modified>
  <cp:revision>6</cp:revision>
  <dc:subject/>
  <dc:title>Slide 1</dc:title>
</cp:coreProperties>
</file>